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720-31E1-454F-A06E-7F98660B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766-97F1-4395-A3E7-6A6D54E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E77-4FF2-48E2-A9BA-51C1F161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7F8-7401-4DA1-BD8F-4C7E579E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04D-0ADA-45CF-89BF-B789CFB2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3D8-168C-4188-A294-3FA7F94E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7F4-280A-4D3F-8239-D1217DAF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021-C966-4B45-9CFB-F7351ADC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4F6-C060-47F7-96FB-83F86238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BC6-3615-4A33-BDF8-FCFB4CF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898-983F-402A-BE6C-6A0373F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A8A-A996-4DAB-BEA4-48857FAC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C4C-BDF0-4618-B06D-10C8D2D08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04/0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ttre en place le logic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fs d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 </cp:lastModifiedBy>
  <dcterms:modified xsi:type="dcterms:W3CDTF">2009-05-05T08:50:57Z</dcterms:modified>
  <cp:revision>10</cp:revision>
  <dc:subject/>
  <dc:title>Présentation PowerPoint</dc:title>
</cp:coreProperties>
</file>